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chimes.wav" ContentType="audio/x-wav"/>
  <Override PartName="/ppt/media/image16.jpeg" ContentType="image/jpeg"/>
  <Override PartName="/ppt/media/image11.jpeg" ContentType="image/jpeg"/>
  <Override PartName="/ppt/media/image9.jpeg" ContentType="image/jpeg"/>
  <Override PartName="/ppt/media/coin.wav" ContentType="audio/x-wav"/>
  <Override PartName="/ppt/media/image8.jpeg" ContentType="image/jpeg"/>
  <Override PartName="/ppt/media/image7.jpeg" ContentType="image/jpeg"/>
  <Override PartName="/ppt/media/image6.png" ContentType="image/png"/>
  <Override PartName="/ppt/media/image18.jpeg" ContentType="image/jpeg"/>
  <Override PartName="/ppt/media/image12.png" ContentType="image/png"/>
  <Override PartName="/ppt/media/image17.jpeg" ContentType="image/jpeg"/>
  <Override PartName="/ppt/media/image15.jpeg" ContentType="image/jpeg"/>
  <Override PartName="/ppt/media/type.wav" ContentType="audio/x-wav"/>
  <Override PartName="/ppt/media/image14.jpeg" ContentType="image/jpeg"/>
  <Override PartName="/ppt/media/image13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D475-EF1A-4A3A-9581-DC6CDE7DF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753A-DB94-4075-97CB-352EF8F51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27C5-5BC7-452B-A61D-0583CA02E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88A7-E352-4984-85DA-EBC6A63EF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AEDCE-571F-46F2-A599-988286744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C5A01-90B2-40E3-8CD9-0D5D48AE6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2650C-22C3-4B52-A6B5-1829B9CD9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4D451-D86E-4EB1-A41C-60897F81E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6E378-D643-45CB-9BA5-39132E089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63EDD-D003-4E02-B319-5265D878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D556B-0A1E-4E22-8B13-FD87CC55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AB92-4883-4E3A-93D1-D5A67DB23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E5FE5-6C80-4F15-8F2A-62DC5D4C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DABED-CCBA-4466-A3FF-57180231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8FEC5-7AEB-44E8-96D2-173967E13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6F4D9-DC60-4D50-A8AE-C1B15C46D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5C91C-3DCF-43BB-93AE-732E90422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473A1-7E17-4639-BA93-A5914B555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6CB46-F4F3-41E1-AB44-1839D0BD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FCCCD-05CF-4A79-BB39-75716676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1F2C8-6ED1-4F83-A0B3-9BE50F01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DC9CA-8065-418E-9DD4-4D18CF104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C131-DA00-49FC-9CCE-6B64BA791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F1CFB-F1AA-4269-93EC-3F2FC355C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F0CB8-C96F-4BD0-A36D-39275ABB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8D5FF-94E3-4C8F-8BBE-CFE2193C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4BF8A-7841-4C10-AD16-4C4314D9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6F554-93D3-41C3-ADA1-4AAD0CE66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C9FFE-BBF7-4AA6-99A9-59F422BA1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3707B-3C9B-417D-BF94-BF3A1E52B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0CFF7-A2F8-42C5-AD96-F773C2FDA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3FE2A-41C0-4FD5-891E-EF3228521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B33FF-3DC1-4C8F-9ADC-3201315D1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1671-2013-4217-B89E-23186DD1A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0D473-31D5-4D88-92A6-FFF54FF92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ECB48-4A7C-47CF-866B-D5A2397D7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0D160-2D95-4322-A4DD-AFBE353A7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58CA8-2D21-4A89-A24F-3F6A1FE1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0A23E-9A82-4E3D-933C-4147AD8D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EC129-3958-434C-8A16-AF8F9617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ED1BA-FB40-4884-A3B4-0B63E51BB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42EB5-01C8-486D-864C-C25AFD367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9DF93-8CBE-446D-9A29-A3D16CE32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0F3E-310A-484F-A461-69E22D85F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B2AA-FE53-4CAD-A97D-7B97BE5AD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DDCC-2011-491C-A98B-FD4DCE9B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8352-F598-458C-B0FE-4C1F9E77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486A-6451-4576-B32F-F554FC32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39937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矩形 39938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任意多边形 39939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任意多边形 39940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任意多边形 39941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任意多边形 39942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任意多边形 39943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任意多边形 39944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任意多边形 39945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任意多边形 39946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任意多边形 39947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任意多边形 39948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矩形 39949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矩形 39950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任意多边形 39951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任意多边形 39952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任意多边形 39953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任意多边形 39954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任意多边形 39955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任意多边形 39956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任意多边形 39957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任意多边形 39958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任意多边形 39959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任意多边形 39960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矩形 39961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矩形 39962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任意多边形 39963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任意多边形 39964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任意多边形 39965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任意多边形 39966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任意多边形 39967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任意多边形 39968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任意多边形 39969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任意多边形 39970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任意多边形 39971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任意多边形 39972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矩形 39973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矩形 39974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任意多边形 39975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任意多边形 39976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任意多边形 39977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任意多边形 39978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任意多边形 39979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任意多边形 39980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任意多边形 39981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任意多边形 39982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任意多边形 39983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任意多边形 39984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矩形 39985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矩形 39986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任意多边形 39987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任意多边形 39988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任意多边形 39989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任意多边形 39990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任意多边形 39991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任意多边形 39992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任意多边形 39993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任意多边形 39994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任意多边形 39995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任意多边形 39996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矩形 39997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矩形 39998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任意多边形 39999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任意多边形 40000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任意多边形 40001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任意多边形 40002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任意多边形 40003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任意多边形 40004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任意多边形 40005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任意多边形 40006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任意多边形 40007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任意多边形 40008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矩形 40009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矩形 40010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任意多边形 40011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任意多边形 40012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任意多边形 40013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任意多边形 40014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任意多边形 40015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任意多边形 40016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任意多边形 40017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任意多边形 40018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任意多边形 40019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任意多边形 40020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矩形 40021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矩形 40022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任意多边形 40023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任意多边形 40024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任意多边形 40025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任意多边形 40026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任意多边形 40027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任意多边形 40028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任意多边形 40029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任意多边形 40030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任意多边形 40031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任意多边形 40032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矩形 40033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矩形 40034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任意多边形 40035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任意多边形 40036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任意多边形 40037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任意多边形 40038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任意多边形 40039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任意多边形 40040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任意多边形 40041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任意多边形 40042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任意多边形 40043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任意多边形 40044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矩形 40045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矩形 40046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任意多边形 40047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任意多边形 40048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任意多边形 40049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任意多边形 40050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任意多边形 40051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任意多边形 40052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任意多边形 40053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任意多边形 40054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任意多边形 40055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任意多边形 40056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矩形 40057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矩形 40058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任意多边形 40059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任意多边形 40060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任意多边形 40061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任意多边形 40062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任意多边形 40063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任意多边形 40064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任意多边形 40065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任意多边形 40066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任意多边形 40067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任意多边形 40068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矩形 40069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矩形 40070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 40071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 40072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任意多边形 40073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任意多边形 40074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 40075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 40076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任意多边形 40077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任意多边形 40078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任意多边形 40079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任意多边形 40080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矩形 40081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任意多边形 40082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组合 40083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任意多边形 40084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任意多边形 40085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任意多边形 40086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任意多边形 40087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任意多边形 40088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任意多边形 40089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任意多边形 40090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任意多边形 40091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任意多边形 40092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任意多边形 40093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任意多边形 40094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任意多边形 40095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任意多边形 40096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组合 40097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任意多边形 40098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任意多边形 40099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任意多边形 40100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任意多边形 40101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任意多边形 40102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任意多边形 40103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任意多边形 40104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任意多边形 40105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任意多边形 40106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任意多边形 40107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任意多边形 40108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任意多边形 40109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任意多边形 40110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组合 40111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任意多边形 40112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任意多边形 40113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任意多边形 40114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任意多边形 40115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任意多边形 40116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任意多边形 40117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任意多边形 40118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任意多边形 40119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任意多边形 40120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任意多边形 40121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任意多边形 40122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任意多边形 40123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任意多边形 40124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组合 40125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任意多边形 40126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任意多边形 40127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任意多边形 40128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任意多边形 40129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任意多边形 40130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任意多边形 40131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任意多边形 40132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任意多边形 40133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任意多边形 40134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任意多边形 40135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任意多边形 40136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任意多边形 40137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任意多边形 40138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组合 40139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任意多边形 40140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任意多边形 40141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任意多边形 40142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任意多边形 40143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任意多边形 40144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任意多边形 40145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任意多边形 40146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任意多边形 40147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任意多边形 40148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任意多边形 40149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任意多边形 40150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任意多边形 40151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任意多边形 40152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组合 40153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任意多边形 40154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 40155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 40156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任意多边形 40157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任意多边形 40158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 40159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 40160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任意多边形 40161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任意多边形 40162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任意多边形 40163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任意多边形 40164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任意多边形 40165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任意多边形 40166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组合 40167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任意多边形 40168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组合 40169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任意多边形 40170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任意多边形 40171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 40172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 40173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任意多边形 40174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任意多边形 40175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任意多边形 40176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任意多边形 40177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任意多边形 40178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任意多边形 40179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任意多边形 40180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任意多边形 40181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任意多边形 40182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90A93-55E3-4773-B30B-DEC6AD5E608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组合 39937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288" name="矩形 39938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任意多边形 39939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任意多边形 39940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任意多边形 39941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任意多边形 39942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任意多边形 39943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任意多边形 39944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任意多边形 39945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任意多边形 39946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任意多边形 39947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任意多边形 39948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矩形 39949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矩形 39950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任意多边形 39951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任意多边形 39952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任意多边形 39953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任意多边形 39954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任意多边形 39955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任意多边形 39956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任意多边形 39957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任意多边形 39958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任意多边形 39959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任意多边形 39960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矩形 39961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矩形 39962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任意多边形 39963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任意多边形 39964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任意多边形 39965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任意多边形 39966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任意多边形 39967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任意多边形 39968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任意多边形 39969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任意多边形 39970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任意多边形 39971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任意多边形 39972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矩形 39973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矩形 39974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任意多边形 39975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任意多边形 39976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任意多边形 39977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任意多边形 39978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任意多边形 39979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任意多边形 39980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任意多边形 39981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任意多边形 39982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任意多边形 39983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任意多边形 39984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矩形 39985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矩形 39986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任意多边形 39987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任意多边形 39988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任意多边形 39989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任意多边形 39990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任意多边形 39991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任意多边形 39992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任意多边形 39993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任意多边形 39994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任意多边形 39995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任意多边形 39996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矩形 39997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矩形 39998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任意多边形 39999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任意多边形 40000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任意多边形 40001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任意多边形 40002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任意多边形 40003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任意多边形 40004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任意多边形 40005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任意多边形 40006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任意多边形 40007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任意多边形 40008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矩形 40009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矩形 40010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任意多边形 40011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任意多边形 40012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任意多边形 40013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任意多边形 40014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任意多边形 40015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任意多边形 40016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任意多边形 40017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任意多边形 40018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任意多边形 40019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任意多边形 40020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矩形 40021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矩形 40022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任意多边形 40023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任意多边形 40024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 40025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 40026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任意多边形 40027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任意多边形 40028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任意多边形 40029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任意多边形 40030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任意多边形 40031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任意多边形 40032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矩形 40033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矩形 40034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任意多边形 40035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任意多边形 40036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任意多边形 40037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任意多边形 40038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任意多边形 40039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任意多边形 40040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任意多边形 40041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任意多边形 40042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任意多边形 40043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任意多边形 40044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矩形 40045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矩形 40046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任意多边形 40047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任意多边形 40048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任意多边形 40049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任意多边形 40050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任意多边形 40051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任意多边形 40052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任意多边形 40053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任意多边形 40054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任意多边形 40055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任意多边形 40056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矩形 40057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矩形 40058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任意多边形 40059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任意多边形 40060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任意多边形 40061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任意多边形 40062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任意多边形 40063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任意多边形 40064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任意多边形 40065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任意多边形 40066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任意多边形 40067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任意多边形 40068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矩形 40069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矩形 40070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任意多边形 40071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任意多边形 40072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任意多边形 40073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任意多边形 40074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任意多边形 40075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任意多边形 40076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任意多边形 40077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任意多边形 40078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任意多边形 40079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任意多边形 40080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矩形 40081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任意多边形 40082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组合 40083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434" name="任意多边形 40084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任意多边形 40085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任意多边形 40086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任意多边形 40087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任意多边形 40088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任意多边形 40089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任意多边形 40090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任意多边形 40091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任意多边形 40092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任意多边形 40093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任意多边形 40094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任意多边形 40095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任意多边形 40096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组合 40097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448" name="任意多边形 40098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任意多边形 40099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任意多边形 40100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任意多边形 40101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任意多边形 40102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任意多边形 40103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任意多边形 40104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 40105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 40106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任意多边形 40107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任意多边形 40108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 40109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 40110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组合 40111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462" name="任意多边形 40112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任意多边形 40113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任意多边形 40114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任意多边形 40115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任意多边形 40116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任意多边形 40117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任意多边形 40118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任意多边形 40119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任意多边形 40120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任意多边形 40121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任意多边形 40122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任意多边形 40123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任意多边形 40124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组合 40125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476" name="任意多边形 40126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任意多边形 40127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任意多边形 40128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任意多边形 40129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任意多边形 40130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任意多边形 40131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任意多边形 40132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任意多边形 40133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任意多边形 40134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任意多边形 40135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任意多边形 40136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任意多边形 40137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任意多边形 40138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组合 40139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490" name="任意多边形 40140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任意多边形 40141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任意多边形 40142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任意多边形 40143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任意多边形 40144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任意多边形 40145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任意多边形 40146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任意多边形 40147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任意多边形 40148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任意多边形 40149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任意多边形 40150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任意多边形 40151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任意多边形 40152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组合 40153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504" name="任意多边形 40154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任意多边形 40155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任意多边形 40156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任意多边形 40157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任意多边形 40158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任意多边形 40159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任意多边形 40160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任意多边形 40161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任意多边形 40162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任意多边形 40163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任意多边形 40164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任意多边形 40165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任意多边形 40166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组合 40167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518" name="任意多边形 40168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9" name="组合 40169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520" name="任意多边形 40170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任意多边形 40171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任意多边形 40172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任意多边形 40173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任意多边形 40174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任意多边形 40175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任意多边形 40176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任意多边形 40177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任意多边形 40178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任意多边形 40179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任意多边形 40180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任意多边形 40181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任意多边形 40182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5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6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66823-7C30-4AB7-8498-A0F25609A0F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任意多边形 40961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组合 40962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576" name="任意多边形 40963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任意多边形 40964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任意多边形 40965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任意多边形 40966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任意多边形 40967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任意多边形 40968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任意多边形 40969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任意多边形 40970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任意多边形 40971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任意多边形 40972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任意多边形 40973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任意多边形 40974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任意多边形 40975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组合 40976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590" name="矩形 40977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任意多边形 40978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任意多边形 40979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任意多边形 40980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任意多边形 40981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任意多边形 40982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任意多边形 40983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任意多边形 40984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任意多边形 40985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任意多边形 40986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任意多边形 40987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矩形 40988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矩形 40989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任意多边形 40990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任意多边形 40991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任意多边形 40992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任意多边形 40993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任意多边形 40994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任意多边形 40995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任意多边形 40996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任意多边形 40997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任意多边形 40998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任意多边形 40999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矩形 41000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矩形 41001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任意多边形 41002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任意多边形 41003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任意多边形 41004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任意多边形 41005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 41006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 41007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 41008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 41009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任意多边形 41010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任意多边形 41011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矩形 41012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矩形 41013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任意多边形 41014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任意多边形 41015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任意多边形 41016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任意多边形 41017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任意多边形 41018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任意多边形 41019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任意多边形 41020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任意多边形 41021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任意多边形 41022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任意多边形 41023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矩形 41024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矩形 41025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任意多边形 41026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任意多边形 41027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任意多边形 41028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任意多边形 41029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任意多边形 41030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任意多边形 41031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任意多边形 41032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任意多边形 41033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任意多边形 41034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任意多边形 41035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矩形 41036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矩形 41037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任意多边形 41038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任意多边形 41039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任意多边形 41040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任意多边形 41041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任意多边形 41042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任意多边形 41043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任意多边形 41044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任意多边形 41045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任意多边形 41046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任意多边形 41047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矩形 41048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矩形 41049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任意多边形 41050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任意多边形 41051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任意多边形 41052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任意多边形 41053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任意多边形 41054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任意多边形 41055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任意多边形 41056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任意多边形 41057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任意多边形 41058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任意多边形 41059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矩形 41060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矩形 41061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任意多边形 41062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任意多边形 41063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任意多边形 41064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任意多边形 41065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任意多边形 41066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任意多边形 41067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任意多边形 41068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任意多边形 41069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任意多边形 41070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任意多边形 41071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矩形 41072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矩形 41073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任意多边形 41074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任意多边形 41075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任意多边形 41076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任意多边形 41077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任意多边形 41078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任意多边形 41079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任意多边形 41080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任意多边形 41081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任意多边形 41082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任意多边形 41083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矩形 41084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矩形 41085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任意多边形 41086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任意多边形 41087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任意多边形 41088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任意多边形 41089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 41090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 41091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 41092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 41093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任意多边形 41094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任意多边形 41095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矩形 41096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矩形 41097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任意多边形 41098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任意多边形 41099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任意多边形 41100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任意多边形 41101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任意多边形 41102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任意多边形 41103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任意多边形 41104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任意多边形 41105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任意多边形 41106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任意多边形 41107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矩形 41108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矩形 41109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任意多边形 41110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任意多边形 41111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任意多边形 41112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任意多边形 41113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任意多边形 41114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任意多边形 41115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任意多边形 41116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任意多边形 41117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任意多边形 41118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任意多边形 41119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矩形 41120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任意多边形 41121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5" name="组合 41127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736" name="任意多边形 41128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任意多边形 41129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任意多边形 41130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任意多边形 41131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任意多边形 41132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任意多边形 41133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任意多边形 41134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任意多边形 41135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任意多边形 41136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任意多边形 41137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任意多边形 41138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任意多边形 41139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任意多边形 41140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7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2CDC5-E907-41E2-A6BE-128390FEA9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任意多边形 40961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1" name="组合 40962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792" name="任意多边形 40963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任意多边形 40964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任意多边形 40965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任意多边形 40966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任意多边形 40967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任意多边形 40968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任意多边形 40969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任意多边形 40970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任意多边形 40971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任意多边形 40972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任意多边形 40973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任意多边形 40974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任意多边形 40975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5" name="组合 40976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806" name="矩形 40977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任意多边形 40978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任意多边形 40979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任意多边形 40980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任意多边形 40981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任意多边形 40982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任意多边形 40983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任意多边形 40984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任意多边形 40985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任意多边形 40986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任意多边形 40987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矩形 40988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矩形 40989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任意多边形 40990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任意多边形 40991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任意多边形 40992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任意多边形 40993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任意多边形 40994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任意多边形 40995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任意多边形 40996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任意多边形 40997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任意多边形 40998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任意多边形 40999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矩形 41000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矩形 41001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任意多边形 41002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任意多边形 41003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任意多边形 41004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任意多边形 41005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任意多边形 41006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任意多边形 41007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任意多边形 41008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任意多边形 41009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任意多边形 41010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任意多边形 41011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矩形 41012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矩形 41013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任意多边形 41014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任意多边形 41015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任意多边形 41016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任意多边形 41017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任意多边形 41018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任意多边形 41019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任意多边形 41020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任意多边形 41021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任意多边形 41022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任意多边形 41023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矩形 41024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矩形 41025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任意多边形 41026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任意多边形 41027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任意多边形 41028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任意多边形 41029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任意多边形 41030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任意多边形 41031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任意多边形 41032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任意多边形 41033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任意多边形 41034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任意多边形 41035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矩形 41036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矩形 41037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任意多边形 41038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任意多边形 41039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任意多边形 41040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任意多边形 41041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任意多边形 41042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任意多边形 41043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任意多边形 41044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任意多边形 41045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任意多边形 41046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任意多边形 41047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矩形 41048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矩形 41049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任意多边形 41050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任意多边形 41051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任意多边形 41052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任意多边形 41053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任意多边形 41054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任意多边形 41055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任意多边形 41056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任意多边形 41057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任意多边形 41058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任意多边形 41059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矩形 41060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矩形 41061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任意多边形 41062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任意多边形 41063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任意多边形 41064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任意多边形 41065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任意多边形 41066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任意多边形 41067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任意多边形 41068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任意多边形 41069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任意多边形 41070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任意多边形 41071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矩形 41072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矩形 41073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任意多边形 41074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任意多边形 41075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任意多边形 41076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任意多边形 41077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任意多边形 41078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任意多边形 41079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任意多边形 41080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任意多边形 41081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任意多边形 41082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任意多边形 41083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矩形 41084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矩形 41085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任意多边形 41086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任意多边形 41087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任意多边形 41088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任意多边形 41089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任意多边形 41090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任意多边形 41091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任意多边形 41092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任意多边形 41093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任意多边形 41094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任意多边形 41095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矩形 41096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矩形 41097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任意多边形 41098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任意多边形 41099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任意多边形 41100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任意多边形 41101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任意多边形 41102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任意多边形 41103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任意多边形 41104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任意多边形 41105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任意多边形 41106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任意多边形 41107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矩形 41108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矩形 41109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任意多边形 41110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任意多边形 41111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任意多边形 41112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任意多边形 41113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任意多边形 41114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任意多边形 41115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任意多边形 41116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任意多边形 41117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任意多边形 41118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任意多边形 41119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矩形 41120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任意多边形 41121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1" name="组合 41127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952" name="任意多边形 41128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任意多边形 41129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任意多边形 41130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任意多边形 41131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任意多边形 41132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任意多边形 41133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任意多边形 41134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任意多边形 41135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任意多边形 41136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任意多边形 41137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任意多边形 41138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任意多边形 41139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任意多边形 41140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 type="dt" idx="10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 type="ftr" idx="1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EF2E7-CB04-46B3-846E-BC7D89CD1F7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259,8,&#24187;&#28783;&#29255; 8" TargetMode="External"/><Relationship Id="rId2" Type="http://schemas.openxmlformats.org/officeDocument/2006/relationships/hyperlink" Target="260,9,&#24187;&#28783;&#29255; 9" TargetMode="External"/><Relationship Id="rId3" Type="http://schemas.openxmlformats.org/officeDocument/2006/relationships/hyperlink" Target="302,10,&#38754;&#23545;&#8220;&#25105;&#8221;&#30340;&#26292;&#36481;&#65292;&#27597;&#20146;" TargetMode="External"/><Relationship Id="rId4" Type="http://schemas.openxmlformats.org/officeDocument/2006/relationships/hyperlink" Target="262,11,&#24187;&#28783;&#29255; 11" TargetMode="External"/><Relationship Id="rId5" Type="http://schemas.openxmlformats.org/officeDocument/2006/relationships/hyperlink" Target="303,12,&#27597;&#20146;&#27492;&#26102;&#65292;&#33258;&#24049;&#30340;&#24773;&#20917;&#26159;&#24590;&#26679;&#30340;&#65311;" TargetMode="External"/><Relationship Id="rId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oin.wav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coin.wav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标题 2057" descr="27796b20d52ee765!161?filename=qiutian02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1007" name="文本框 2053"/>
          <p:cNvSpPr/>
          <p:nvPr/>
        </p:nvSpPr>
        <p:spPr>
          <a:xfrm>
            <a:off x="538200" y="1851120"/>
            <a:ext cx="54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秋 天 的 怀 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文本框 2054"/>
          <p:cNvSpPr/>
          <p:nvPr/>
        </p:nvSpPr>
        <p:spPr>
          <a:xfrm>
            <a:off x="3132000" y="386064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史铁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文本框 2055"/>
          <p:cNvSpPr/>
          <p:nvPr/>
        </p:nvSpPr>
        <p:spPr>
          <a:xfrm>
            <a:off x="395280" y="3357720"/>
            <a:ext cx="8424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97000" y="253800"/>
            <a:ext cx="698184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  <a:ea typeface="隶书"/>
              </a:rPr>
              <a:t>面对“我”的暴躁，母亲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pic>
        <p:nvPicPr>
          <p:cNvPr id="1053" name="图片 9219" descr="花"/>
          <p:cNvPicPr/>
          <p:nvPr/>
        </p:nvPicPr>
        <p:blipFill>
          <a:blip r:embed="rId1"/>
          <a:stretch/>
        </p:blipFill>
        <p:spPr>
          <a:xfrm>
            <a:off x="6732720" y="4437000"/>
            <a:ext cx="2365200" cy="2405160"/>
          </a:xfrm>
          <a:prstGeom prst="rect">
            <a:avLst/>
          </a:prstGeom>
          <a:ln w="0">
            <a:noFill/>
          </a:ln>
        </p:spPr>
      </p:pic>
      <p:sp>
        <p:nvSpPr>
          <p:cNvPr id="1054" name="矩形 9220"/>
          <p:cNvSpPr/>
          <p:nvPr/>
        </p:nvSpPr>
        <p:spPr>
          <a:xfrm>
            <a:off x="900000" y="1052640"/>
            <a:ext cx="4535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隶书"/>
              </a:rPr>
              <a:t>——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悄悄地躲出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矩形 9221"/>
          <p:cNvSpPr/>
          <p:nvPr/>
        </p:nvSpPr>
        <p:spPr>
          <a:xfrm>
            <a:off x="900000" y="1916280"/>
            <a:ext cx="5759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隶书"/>
              </a:rPr>
              <a:t>——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偷偷地听我的动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矩形 9222"/>
          <p:cNvSpPr/>
          <p:nvPr/>
        </p:nvSpPr>
        <p:spPr>
          <a:xfrm>
            <a:off x="900000" y="2781360"/>
            <a:ext cx="7559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隶书"/>
              </a:rPr>
              <a:t>——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扑过来、抓住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矩形 9223"/>
          <p:cNvSpPr/>
          <p:nvPr/>
        </p:nvSpPr>
        <p:spPr>
          <a:xfrm>
            <a:off x="900000" y="3645000"/>
            <a:ext cx="3311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隶书"/>
              </a:rPr>
              <a:t>——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忍住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矩形 9224"/>
          <p:cNvSpPr/>
          <p:nvPr/>
        </p:nvSpPr>
        <p:spPr>
          <a:xfrm>
            <a:off x="900000" y="4508640"/>
            <a:ext cx="352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隶书"/>
              </a:rPr>
              <a:t>——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好好儿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文本框 9236"/>
          <p:cNvSpPr/>
          <p:nvPr/>
        </p:nvSpPr>
        <p:spPr>
          <a:xfrm>
            <a:off x="0" y="5303880"/>
            <a:ext cx="72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  <a:ea typeface="隶书"/>
              </a:rPr>
              <a:t>     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  <a:ea typeface="隶书"/>
              </a:rPr>
              <a:t>品读第三段，母亲又是怎样对待儿子的？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pic>
        <p:nvPicPr>
          <p:cNvPr id="1061" name="图片 10243" descr="花"/>
          <p:cNvPicPr/>
          <p:nvPr/>
        </p:nvPicPr>
        <p:blipFill>
          <a:blip r:embed="rId1"/>
          <a:stretch/>
        </p:blipFill>
        <p:spPr>
          <a:xfrm>
            <a:off x="6732720" y="4437000"/>
            <a:ext cx="2365200" cy="2405160"/>
          </a:xfrm>
          <a:prstGeom prst="rect">
            <a:avLst/>
          </a:prstGeom>
          <a:ln w="0">
            <a:noFill/>
          </a:ln>
        </p:spPr>
      </p:pic>
      <p:sp>
        <p:nvSpPr>
          <p:cNvPr id="1062" name="矩形 10244"/>
          <p:cNvSpPr/>
          <p:nvPr/>
        </p:nvSpPr>
        <p:spPr>
          <a:xfrm>
            <a:off x="684360" y="1782720"/>
            <a:ext cx="4535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隶书"/>
              </a:rPr>
              <a:t>——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挡在窗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矩形 10245"/>
          <p:cNvSpPr/>
          <p:nvPr/>
        </p:nvSpPr>
        <p:spPr>
          <a:xfrm>
            <a:off x="684360" y="2646360"/>
            <a:ext cx="5759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隶书"/>
              </a:rPr>
              <a:t>——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央求般的神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矩形 10246"/>
          <p:cNvSpPr/>
          <p:nvPr/>
        </p:nvSpPr>
        <p:spPr>
          <a:xfrm>
            <a:off x="684360" y="3511440"/>
            <a:ext cx="7559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隶书"/>
              </a:rPr>
              <a:t>——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一会儿坐下，一会儿站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矩形 10247"/>
          <p:cNvSpPr/>
          <p:nvPr/>
        </p:nvSpPr>
        <p:spPr>
          <a:xfrm>
            <a:off x="684360" y="4375080"/>
            <a:ext cx="460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隶书"/>
              </a:rPr>
              <a:t>——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比我还敏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250920" y="13410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  <a:ea typeface="隶书"/>
              </a:rPr>
              <a:t>母亲此时，自己的情况是怎样的？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67" name=""/>
          <p:cNvSpPr txBox="1"/>
          <p:nvPr/>
        </p:nvSpPr>
        <p:spPr>
          <a:xfrm>
            <a:off x="2048040" y="2560680"/>
            <a:ext cx="3350880" cy="17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身患绝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儿子瘫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图片 11267" descr="花"/>
          <p:cNvPicPr/>
          <p:nvPr/>
        </p:nvPicPr>
        <p:blipFill>
          <a:blip r:embed="rId1"/>
          <a:stretch/>
        </p:blipFill>
        <p:spPr>
          <a:xfrm>
            <a:off x="6732720" y="4437000"/>
            <a:ext cx="2365200" cy="2405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0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0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  <a:ea typeface="隶书"/>
              </a:rPr>
              <a:t>深受苦楚的母亲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pic>
        <p:nvPicPr>
          <p:cNvPr id="1070" name="图片 12291" descr="花"/>
          <p:cNvPicPr/>
          <p:nvPr/>
        </p:nvPicPr>
        <p:blipFill>
          <a:blip r:embed="rId1"/>
          <a:stretch/>
        </p:blipFill>
        <p:spPr>
          <a:xfrm>
            <a:off x="6732720" y="4437000"/>
            <a:ext cx="2365200" cy="2405160"/>
          </a:xfrm>
          <a:prstGeom prst="rect">
            <a:avLst/>
          </a:prstGeom>
          <a:ln w="0">
            <a:noFill/>
          </a:ln>
        </p:spPr>
      </p:pic>
      <p:sp>
        <p:nvSpPr>
          <p:cNvPr id="1071" name=""/>
          <p:cNvSpPr txBox="1"/>
          <p:nvPr/>
        </p:nvSpPr>
        <p:spPr>
          <a:xfrm>
            <a:off x="755640" y="907920"/>
            <a:ext cx="640872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黑体"/>
                <a:ea typeface="黑体"/>
              </a:rPr>
              <a:t>有没有突然把面前的玻璃砸碎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文本框 12293"/>
          <p:cNvSpPr/>
          <p:nvPr/>
        </p:nvSpPr>
        <p:spPr>
          <a:xfrm>
            <a:off x="684360" y="213372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黑体"/>
                <a:ea typeface="黑体"/>
              </a:rPr>
              <a:t>有没有猛地把手边的东西摔向四周的墙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文本框 12294"/>
          <p:cNvSpPr/>
          <p:nvPr/>
        </p:nvSpPr>
        <p:spPr>
          <a:xfrm>
            <a:off x="755640" y="342900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黑体"/>
                <a:ea typeface="黑体"/>
              </a:rPr>
              <a:t>有没有大声呼喊我活着什么劲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文本框 12295"/>
          <p:cNvSpPr/>
          <p:nvPr/>
        </p:nvSpPr>
        <p:spPr>
          <a:xfrm>
            <a:off x="900000" y="148428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没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文本框 12296"/>
          <p:cNvSpPr/>
          <p:nvPr/>
        </p:nvSpPr>
        <p:spPr>
          <a:xfrm>
            <a:off x="826920" y="278136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没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文本框 12297"/>
          <p:cNvSpPr/>
          <p:nvPr/>
        </p:nvSpPr>
        <p:spPr>
          <a:xfrm>
            <a:off x="900000" y="4005360"/>
            <a:ext cx="29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没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文本框 12298"/>
          <p:cNvSpPr/>
          <p:nvPr/>
        </p:nvSpPr>
        <p:spPr>
          <a:xfrm>
            <a:off x="684360" y="4797360"/>
            <a:ext cx="5832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自己做坚强的母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让儿子成为坚强的儿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8" name="图片 17414" descr="shits02"/>
          <p:cNvPicPr/>
          <p:nvPr/>
        </p:nvPicPr>
        <p:blipFill>
          <a:blip r:embed="rId1"/>
          <a:stretch/>
        </p:blipFill>
        <p:spPr>
          <a:xfrm>
            <a:off x="6877080" y="4762440"/>
            <a:ext cx="2266920" cy="1816200"/>
          </a:xfrm>
          <a:prstGeom prst="rect">
            <a:avLst/>
          </a:prstGeom>
          <a:ln w="0">
            <a:noFill/>
          </a:ln>
        </p:spPr>
      </p:pic>
      <p:sp>
        <p:nvSpPr>
          <p:cNvPr id="1079" name="文本框 17411"/>
          <p:cNvSpPr/>
          <p:nvPr/>
        </p:nvSpPr>
        <p:spPr>
          <a:xfrm>
            <a:off x="-66600" y="-11160"/>
            <a:ext cx="9275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在那段日子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那是好几年长的一段日子，我想我一定使母亲作过了最坏的准备了，但她从来没有对我说过：“你为我想想。”事实上我也真的没为她想过。那时她的儿子，还太年轻，还来不及为母亲想，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  <a:ea typeface="宋体"/>
              </a:rPr>
              <a:t>他被命运击昏了头，一心以为自己是世上最不幸的一个，不知道儿子的不幸在母亲那儿总是要加倍的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她有一个长到二十岁上忽然截瘫了的儿子，这是她唯一的儿子；她情愿截瘫的是自己而不是儿子，可这事无法代替；她想，只要儿子能活下去哪怕自己去死也行，可她又确信一个人不能仅仅是活着，儿子得有一条路走向自己的幸福；而这条路呢，没有谁能保证她的儿子终能找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  <a:ea typeface="宋体"/>
              </a:rPr>
              <a:t>这样一个母亲，注定是活得最苦的母亲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7030a0"/>
                </a:solidFill>
                <a:latin typeface="Arial"/>
                <a:ea typeface="宋体"/>
              </a:rPr>
              <a:t>我与地坛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                                                    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文本框 17413"/>
          <p:cNvSpPr/>
          <p:nvPr/>
        </p:nvSpPr>
        <p:spPr>
          <a:xfrm>
            <a:off x="3492360" y="1773360"/>
            <a:ext cx="374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1" name="11013秋天的怀念配乐(1).mp3" descr=""/>
          <p:cNvPicPr/>
          <p:nvPr/>
        </p:nvPicPr>
        <p:blipFill>
          <a:blip r:embed="rId2"/>
          <a:stretch/>
        </p:blipFill>
        <p:spPr>
          <a:xfrm>
            <a:off x="78120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restart="whenNotActive" nodeType="interactiveSeq" fill="hold">
                <p:stCondLst>
                  <p:cond evt="onClick">
                    <p:tgtEl>
                      <p:spTgt spid="1081"/>
                    </p:tgtEl>
                  </p:cond>
                </p:stCondLst>
                <p:childTnLst>
                  <p:par>
                    <p:cTn id="234" fill="hold">
                      <p:stCondLst>
                        <p:cond evt="onClick">
                          <p:tgtEl>
                            <p:spTgt spid="1081"/>
                          </p:tgtEl>
                        </p:cond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7" dur="215369" fill="hold"/>
                                        <p:tgtEl>
                                          <p:spTgt spid="10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12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找出文中描写母亲的句子，体会伟大的母爱。</a:t>
            </a:r>
            <a:endParaRPr b="0" lang="en-US" sz="3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83" name="文本框 36867"/>
          <p:cNvSpPr/>
          <p:nvPr/>
        </p:nvSpPr>
        <p:spPr>
          <a:xfrm>
            <a:off x="1122480" y="27468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宋体"/>
              </a:rPr>
              <a:t>再读课文，体会母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457200" y="314172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提示：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人物描写的句子（如动作、语言、           神情、心理等）；重点字词的理解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文本框 36869"/>
          <p:cNvSpPr/>
          <p:nvPr/>
        </p:nvSpPr>
        <p:spPr>
          <a:xfrm>
            <a:off x="852120" y="480060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文本框 36870"/>
          <p:cNvSpPr/>
          <p:nvPr/>
        </p:nvSpPr>
        <p:spPr>
          <a:xfrm>
            <a:off x="1842840" y="480060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文本框 36871"/>
          <p:cNvSpPr/>
          <p:nvPr/>
        </p:nvSpPr>
        <p:spPr>
          <a:xfrm>
            <a:off x="2909520" y="480060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3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文本框 36872"/>
          <p:cNvSpPr/>
          <p:nvPr/>
        </p:nvSpPr>
        <p:spPr>
          <a:xfrm>
            <a:off x="3976200" y="480060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4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文本框 36873"/>
          <p:cNvSpPr/>
          <p:nvPr/>
        </p:nvSpPr>
        <p:spPr>
          <a:xfrm>
            <a:off x="5043240" y="480060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5"/>
              </a:rPr>
              <a:t>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、母亲就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悄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躲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出去，在我看不见的地方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偷偷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地听着我的动静。当一切恢复沉寂，她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悄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地进来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眼边儿红红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地看着我。（品味“悄悄”，“偷偷”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Text Box 4"/>
          <p:cNvSpPr/>
          <p:nvPr/>
        </p:nvSpPr>
        <p:spPr>
          <a:xfrm>
            <a:off x="7178760" y="5183280"/>
            <a:ext cx="45864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AutoShape 6"/>
          <p:cNvSpPr/>
          <p:nvPr/>
        </p:nvSpPr>
        <p:spPr>
          <a:xfrm>
            <a:off x="2340000" y="260280"/>
            <a:ext cx="5545080" cy="1586160"/>
          </a:xfrm>
          <a:prstGeom prst="cloudCallout">
            <a:avLst>
              <a:gd name="adj1" fmla="val -17421"/>
              <a:gd name="adj2" fmla="val 90939"/>
            </a:avLst>
          </a:prstGeom>
          <a:solidFill>
            <a:srgbClr val="e1f4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WordArt 7"/>
          <p:cNvSpPr txBox="1"/>
          <p:nvPr/>
        </p:nvSpPr>
        <p:spPr>
          <a:xfrm>
            <a:off x="3348000" y="620640"/>
            <a:ext cx="3384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2320">
                  <a:solidFill>
                    <a:srgbClr val="ff00ff"/>
                  </a:solidFill>
                  <a:round/>
                </a:ln>
                <a:solidFill>
                  <a:srgbClr val="ff99cc"/>
                </a:solidFill>
                <a:latin typeface="楷体_GB2312"/>
              </a:rPr>
              <a:t>母爱是理解</a:t>
            </a:r>
            <a:endParaRPr b="1" lang="en-US" sz="1800" spc="1" strike="noStrike">
              <a:ln w="22320">
                <a:solidFill>
                  <a:srgbClr val="ff00ff"/>
                </a:solidFill>
                <a:round/>
              </a:ln>
              <a:solidFill>
                <a:srgbClr val="ff99cc"/>
              </a:solidFill>
              <a:latin typeface="楷体_GB2312"/>
              <a:ea typeface="楷体_GB2312"/>
            </a:endParaRPr>
          </a:p>
        </p:txBody>
      </p:sp>
      <p:sp>
        <p:nvSpPr>
          <p:cNvPr id="1094" name="AutoShape 8"/>
          <p:cNvSpPr/>
          <p:nvPr/>
        </p:nvSpPr>
        <p:spPr>
          <a:xfrm>
            <a:off x="1908000" y="3860640"/>
            <a:ext cx="1727280" cy="1656000"/>
          </a:xfrm>
          <a:prstGeom prst="wedgeEllipse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AutoShape 10"/>
          <p:cNvSpPr/>
          <p:nvPr/>
        </p:nvSpPr>
        <p:spPr>
          <a:xfrm>
            <a:off x="6148440" y="2281320"/>
            <a:ext cx="914400" cy="914400"/>
          </a:xfrm>
          <a:prstGeom prst="borderCallout1">
            <a:avLst>
              <a:gd name="adj1" fmla="val 18750"/>
              <a:gd name="adj2" fmla="val -8333"/>
              <a:gd name="adj3" fmla="val -8333"/>
              <a:gd name="adj4" fmla="val -13298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WordArt 11"/>
          <p:cNvSpPr txBox="1"/>
          <p:nvPr/>
        </p:nvSpPr>
        <p:spPr>
          <a:xfrm>
            <a:off x="1042920" y="4653000"/>
            <a:ext cx="64818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楷体_GB2312"/>
              </a:rPr>
              <a:t>动作描写和神态描写</a:t>
            </a:r>
            <a:endParaRPr b="1" lang="en-US" sz="6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>
    <p:wedge/>
    <p:sndAc>
      <p:stSnd>
        <p:snd r:embed="rId1" name="coin.wav"/>
      </p:stSnd>
    </p:sndAc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0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/>
          </p:nvPr>
        </p:nvSpPr>
        <p:spPr>
          <a:xfrm>
            <a:off x="324000" y="141264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当一切恢复沉寂，她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悄悄地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进来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眼边儿红红的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看着我。“听说北海的花儿都开了，我推着你去走走。”她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  <a:ea typeface="楷体_GB2312"/>
              </a:rPr>
              <a:t>总是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这么说。母亲喜欢花，可自从我的腿瘫痪后，她侍弄的那些花都死了。“不，我不去！”我狠命地捶打这两条可恨的腿，喊着：“我活着有什么劲！”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母亲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扑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过来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抓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住我的手，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忍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住哭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声说：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咱娘儿俩在一块儿，好好儿活，好好儿活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……”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（品味“扑”，“抓’’，“忍”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Text Box 4"/>
          <p:cNvSpPr/>
          <p:nvPr/>
        </p:nvSpPr>
        <p:spPr>
          <a:xfrm>
            <a:off x="7740720" y="5516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Text Box 5"/>
          <p:cNvSpPr/>
          <p:nvPr/>
        </p:nvSpPr>
        <p:spPr>
          <a:xfrm>
            <a:off x="7000920" y="5594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AutoShape 8"/>
          <p:cNvSpPr/>
          <p:nvPr/>
        </p:nvSpPr>
        <p:spPr>
          <a:xfrm>
            <a:off x="4140360" y="0"/>
            <a:ext cx="5003640" cy="2637000"/>
          </a:xfrm>
          <a:prstGeom prst="cloudCallout">
            <a:avLst>
              <a:gd name="adj1" fmla="val -34773"/>
              <a:gd name="adj2" fmla="val 58129"/>
            </a:avLst>
          </a:prstGeom>
          <a:solidFill>
            <a:srgbClr val="e1f4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1" name="WordArt 9" descr=""/>
          <p:cNvPicPr/>
          <p:nvPr/>
        </p:nvPicPr>
        <p:blipFill>
          <a:blip r:embed="rId1"/>
          <a:stretch/>
        </p:blipFill>
        <p:spPr>
          <a:xfrm>
            <a:off x="5138640" y="390600"/>
            <a:ext cx="3262320" cy="2663640"/>
          </a:xfrm>
          <a:prstGeom prst="rect">
            <a:avLst/>
          </a:prstGeom>
          <a:ln w="0">
            <a:noFill/>
          </a:ln>
        </p:spPr>
      </p:pic>
      <p:sp>
        <p:nvSpPr>
          <p:cNvPr id="1102" name="AutoShape 10"/>
          <p:cNvSpPr/>
          <p:nvPr/>
        </p:nvSpPr>
        <p:spPr>
          <a:xfrm>
            <a:off x="316080" y="249696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18900" y="-1800"/>
                </a:moveTo>
                <a:lnTo>
                  <a:pt x="18900" y="-180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AutoShape 12"/>
          <p:cNvSpPr/>
          <p:nvPr/>
        </p:nvSpPr>
        <p:spPr>
          <a:xfrm>
            <a:off x="755640" y="692280"/>
            <a:ext cx="1584360" cy="136836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AutoShape 15"/>
          <p:cNvSpPr/>
          <p:nvPr/>
        </p:nvSpPr>
        <p:spPr>
          <a:xfrm>
            <a:off x="2916360" y="4724280"/>
            <a:ext cx="718920" cy="144144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WordArt 18"/>
          <p:cNvSpPr txBox="1"/>
          <p:nvPr/>
        </p:nvSpPr>
        <p:spPr>
          <a:xfrm>
            <a:off x="2556000" y="5445000"/>
            <a:ext cx="453708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楷体_GB2312"/>
              </a:rPr>
              <a:t>动作 语言 神态描写</a:t>
            </a:r>
            <a:endParaRPr b="1" lang="en-US" sz="5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>
    <p:wedge/>
    <p:sndAc>
      <p:stSnd>
        <p:snd r:embed="rId2" name="coin.wav"/>
      </p:stSnd>
    </p:sndAc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 txBox="1"/>
          <p:nvPr/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C 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那天我又独自坐在屋里，看着窗外的树叶“唰唰啦啦”地飘落。母亲进来了，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挡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在窗前：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北海的菊花开了，我推着你去看看吧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AutoShape 8"/>
          <p:cNvSpPr/>
          <p:nvPr/>
        </p:nvSpPr>
        <p:spPr>
          <a:xfrm>
            <a:off x="2771640" y="0"/>
            <a:ext cx="5004000" cy="2852640"/>
          </a:xfrm>
          <a:prstGeom prst="cloudCallout">
            <a:avLst>
              <a:gd name="adj1" fmla="val -34773"/>
              <a:gd name="adj2" fmla="val 43324"/>
            </a:avLst>
          </a:prstGeom>
          <a:solidFill>
            <a:srgbClr val="e1f4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99"/>
                </a:solidFill>
                <a:latin typeface="Arial"/>
              </a:rPr>
              <a:t>母爱是呵护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WordArt 18"/>
          <p:cNvSpPr txBox="1"/>
          <p:nvPr/>
        </p:nvSpPr>
        <p:spPr>
          <a:xfrm>
            <a:off x="2340000" y="4797360"/>
            <a:ext cx="4537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楷体_GB2312"/>
              </a:rPr>
              <a:t>动作 语言描写</a:t>
            </a:r>
            <a:endParaRPr b="1" lang="en-US" sz="5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她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憔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脸现出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央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般的神色。“什么时候？”“你要是愿意，就明天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她说。我的回答已经让她喜出望外了。“好吧，就明天。”我说。她高兴得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一会儿坐下，一会地站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“那就赶紧准备准备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AutoShape 4"/>
          <p:cNvSpPr/>
          <p:nvPr/>
        </p:nvSpPr>
        <p:spPr>
          <a:xfrm>
            <a:off x="4500720" y="-241200"/>
            <a:ext cx="3744720" cy="2950920"/>
          </a:xfrm>
          <a:prstGeom prst="cloudCallout">
            <a:avLst>
              <a:gd name="adj1" fmla="val -44490"/>
              <a:gd name="adj2" fmla="val 70000"/>
            </a:avLst>
          </a:prstGeom>
          <a:solidFill>
            <a:srgbClr val="e1f4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1" name="WordArt 5" descr=""/>
          <p:cNvPicPr/>
          <p:nvPr/>
        </p:nvPicPr>
        <p:blipFill>
          <a:blip r:embed="rId1"/>
          <a:stretch/>
        </p:blipFill>
        <p:spPr>
          <a:xfrm>
            <a:off x="4927680" y="544680"/>
            <a:ext cx="2987640" cy="1474560"/>
          </a:xfrm>
          <a:prstGeom prst="rect">
            <a:avLst/>
          </a:prstGeom>
          <a:ln w="0">
            <a:noFill/>
          </a:ln>
        </p:spPr>
      </p:pic>
      <p:sp>
        <p:nvSpPr>
          <p:cNvPr id="1112" name="WordArt 18"/>
          <p:cNvSpPr txBox="1"/>
          <p:nvPr/>
        </p:nvSpPr>
        <p:spPr>
          <a:xfrm>
            <a:off x="1908000" y="4581360"/>
            <a:ext cx="489744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楷体_GB2312"/>
              </a:rPr>
              <a:t>动作 语言 神态描写</a:t>
            </a:r>
            <a:endParaRPr b="1" lang="en-US" sz="5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>
    <p:wedge/>
    <p:sndAc>
      <p:stSnd>
        <p:snd r:embed="rId2" name="coin.wav"/>
      </p:stSnd>
    </p:sndAc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4" dur="1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文本框 57347"/>
          <p:cNvSpPr/>
          <p:nvPr/>
        </p:nvSpPr>
        <p:spPr>
          <a:xfrm>
            <a:off x="826920" y="549360"/>
            <a:ext cx="237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矩形 57348"/>
          <p:cNvSpPr txBox="1"/>
          <p:nvPr/>
        </p:nvSpPr>
        <p:spPr>
          <a:xfrm>
            <a:off x="539640" y="260280"/>
            <a:ext cx="3168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cap="rnd" w="936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教学目标</a:t>
            </a:r>
            <a:endParaRPr b="0" lang="en-US" sz="4000" spc="1" strike="noStrike">
              <a:ln cap="rnd" w="9360">
                <a:solidFill>
                  <a:srgbClr val="ffffff"/>
                </a:solidFill>
                <a:custDash>
                  <a:ds d="100000" sp="1000"/>
                </a:custDash>
                <a:round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12" name="文本框 57349"/>
          <p:cNvSpPr/>
          <p:nvPr/>
        </p:nvSpPr>
        <p:spPr>
          <a:xfrm>
            <a:off x="434880" y="1916280"/>
            <a:ext cx="827424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体会作者将浓烈的感情寄托在叙事中的写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掌握人物的动作、神态、语言等描写，感受人物 形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深切地领悟文章蕴涵的深沉无私的母爱，联系生活实际，激发学生的感恩情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  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她也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笑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了，坐在我身边，絮絮叨叨地说着：“看完菊花，咱们就去‘仿膳’，你小时候最爱吃那儿的豌豆黄儿。还记得那回我带你去北海吗？你偏说那杨树花是毛毛虫，跑着，一脚踩扁一个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……”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她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忽然不说了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。对于“跑”和“踩”一类的字眼儿，她比我还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敏感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。她又悄悄地出去了。（聚焦“笑”，“敏感” 透过这几个字，你看出了什么？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AutoShape 4"/>
          <p:cNvSpPr/>
          <p:nvPr/>
        </p:nvSpPr>
        <p:spPr>
          <a:xfrm>
            <a:off x="2627280" y="260280"/>
            <a:ext cx="4897440" cy="1513080"/>
          </a:xfrm>
          <a:prstGeom prst="cloudCallout">
            <a:avLst>
              <a:gd name="adj1" fmla="val -49157"/>
              <a:gd name="adj2" fmla="val 40449"/>
            </a:avLst>
          </a:prstGeom>
          <a:solidFill>
            <a:srgbClr val="e1f4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WordArt 5"/>
          <p:cNvSpPr txBox="1"/>
          <p:nvPr/>
        </p:nvSpPr>
        <p:spPr>
          <a:xfrm>
            <a:off x="3276720" y="549360"/>
            <a:ext cx="3024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ff"/>
                  </a:solidFill>
                  <a:round/>
                </a:ln>
                <a:solidFill>
                  <a:srgbClr val="ff99cc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楷体_GB2312"/>
              </a:rPr>
              <a:t>母爱是细心，是宽容</a:t>
            </a:r>
            <a:endParaRPr b="1" lang="en-US" sz="1800" spc="1" strike="noStrike">
              <a:ln w="9360">
                <a:solidFill>
                  <a:srgbClr val="ff00ff"/>
                </a:solidFill>
                <a:round/>
              </a:ln>
              <a:solidFill>
                <a:srgbClr val="ff99cc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116" name="WordArt 18"/>
          <p:cNvSpPr txBox="1"/>
          <p:nvPr/>
        </p:nvSpPr>
        <p:spPr>
          <a:xfrm>
            <a:off x="1979640" y="5489640"/>
            <a:ext cx="4897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楷体_GB2312"/>
              </a:rPr>
              <a:t>动作 语言 神态描写</a:t>
            </a:r>
            <a:endParaRPr b="1" lang="en-US" sz="5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>
    <p:wedge/>
    <p:sndAc>
      <p:stSnd>
        <p:snd r:embed="rId1" name="coin.wav"/>
      </p:stSnd>
    </p:sndAc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9" dur="10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-684360" y="306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隶书"/>
                <a:ea typeface="隶书"/>
              </a:rPr>
              <a:t>  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pic>
        <p:nvPicPr>
          <p:cNvPr id="1118" name="图片 13317" descr="黄色4"/>
          <p:cNvPicPr/>
          <p:nvPr/>
        </p:nvPicPr>
        <p:blipFill>
          <a:blip r:embed="rId1"/>
          <a:stretch/>
        </p:blipFill>
        <p:spPr>
          <a:xfrm>
            <a:off x="0" y="0"/>
            <a:ext cx="4284720" cy="2781360"/>
          </a:xfrm>
          <a:prstGeom prst="rect">
            <a:avLst/>
          </a:prstGeom>
          <a:ln w="0">
            <a:noFill/>
          </a:ln>
        </p:spPr>
      </p:pic>
      <p:pic>
        <p:nvPicPr>
          <p:cNvPr id="1119" name="图片 13318" descr="白色7"/>
          <p:cNvPicPr/>
          <p:nvPr/>
        </p:nvPicPr>
        <p:blipFill>
          <a:blip r:embed="rId2"/>
          <a:stretch/>
        </p:blipFill>
        <p:spPr>
          <a:xfrm>
            <a:off x="4284720" y="0"/>
            <a:ext cx="4859280" cy="2781360"/>
          </a:xfrm>
          <a:prstGeom prst="rect">
            <a:avLst/>
          </a:prstGeom>
          <a:ln w="0">
            <a:noFill/>
          </a:ln>
        </p:spPr>
      </p:pic>
      <p:pic>
        <p:nvPicPr>
          <p:cNvPr id="1120" name="图片 13321" descr="紫红5"/>
          <p:cNvPicPr/>
          <p:nvPr/>
        </p:nvPicPr>
        <p:blipFill>
          <a:blip r:embed="rId3"/>
          <a:stretch/>
        </p:blipFill>
        <p:spPr>
          <a:xfrm>
            <a:off x="0" y="4365720"/>
            <a:ext cx="4284720" cy="2492280"/>
          </a:xfrm>
          <a:prstGeom prst="rect">
            <a:avLst/>
          </a:prstGeom>
          <a:ln w="0">
            <a:noFill/>
          </a:ln>
        </p:spPr>
      </p:pic>
      <p:pic>
        <p:nvPicPr>
          <p:cNvPr id="1121" name="图片 13322" descr="粉红"/>
          <p:cNvPicPr/>
          <p:nvPr/>
        </p:nvPicPr>
        <p:blipFill>
          <a:blip r:embed="rId4"/>
          <a:stretch/>
        </p:blipFill>
        <p:spPr>
          <a:xfrm>
            <a:off x="4284720" y="4365720"/>
            <a:ext cx="4859280" cy="2492280"/>
          </a:xfrm>
          <a:prstGeom prst="rect">
            <a:avLst/>
          </a:prstGeom>
          <a:ln w="0">
            <a:noFill/>
          </a:ln>
        </p:spPr>
      </p:pic>
      <p:sp>
        <p:nvSpPr>
          <p:cNvPr id="1122" name="文本框 13323"/>
          <p:cNvSpPr/>
          <p:nvPr/>
        </p:nvSpPr>
        <p:spPr>
          <a:xfrm>
            <a:off x="0" y="191628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淡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文本框 13324"/>
          <p:cNvSpPr/>
          <p:nvPr/>
        </p:nvSpPr>
        <p:spPr>
          <a:xfrm>
            <a:off x="7020000" y="1989000"/>
            <a:ext cx="17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高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文本框 13325"/>
          <p:cNvSpPr/>
          <p:nvPr/>
        </p:nvSpPr>
        <p:spPr>
          <a:xfrm>
            <a:off x="2700360" y="609588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热烈而深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矩形 13328"/>
          <p:cNvSpPr txBox="1"/>
          <p:nvPr/>
        </p:nvSpPr>
        <p:spPr>
          <a:xfrm>
            <a:off x="971640" y="2708280"/>
            <a:ext cx="662472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母亲为什么要带我去看菊花？</a:t>
            </a:r>
            <a:endParaRPr b="0" lang="en-US" sz="5400" spc="1" strike="noStrike">
              <a:ln w="12600">
                <a:solidFill>
                  <a:srgbClr val="000000"/>
                </a:solidFill>
                <a:round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26" name="矩形 13329"/>
          <p:cNvSpPr txBox="1"/>
          <p:nvPr/>
        </p:nvSpPr>
        <p:spPr>
          <a:xfrm>
            <a:off x="1187280" y="2781360"/>
            <a:ext cx="6858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0">
                  <a:noFill/>
                </a:ln>
                <a:solidFill>
                  <a:srgbClr val="0000ff">
                    <a:alpha val="60000"/>
                  </a:srgbClr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我为什么去看菊花？</a:t>
            </a:r>
            <a:endParaRPr b="0" lang="en-US" sz="6000" spc="-1" strike="noStrike">
              <a:ln w="0">
                <a:noFill/>
              </a:ln>
              <a:solidFill>
                <a:srgbClr val="0000ff">
                  <a:alpha val="60000"/>
                </a:srgbClr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wheel spokes="8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7" dur="20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2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2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78" dur="20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20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20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9" dur="2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94" dur="20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20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4" dur="20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408" dur="20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4" dur="20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图片 22529" descr="2009330016298949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8" name="矩形 22530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矩形 22531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矩形 22532"/>
          <p:cNvSpPr/>
          <p:nvPr/>
        </p:nvSpPr>
        <p:spPr>
          <a:xfrm>
            <a:off x="888840" y="70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矩形 22533"/>
          <p:cNvSpPr/>
          <p:nvPr/>
        </p:nvSpPr>
        <p:spPr>
          <a:xfrm>
            <a:off x="468360" y="549360"/>
            <a:ext cx="7775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流程图: 可选过程 22534"/>
          <p:cNvSpPr/>
          <p:nvPr/>
        </p:nvSpPr>
        <p:spPr>
          <a:xfrm>
            <a:off x="7956720" y="6426360"/>
            <a:ext cx="936360" cy="431640"/>
          </a:xfrm>
          <a:prstGeom prst="flowChartAlternateProcess">
            <a:avLst/>
          </a:prstGeom>
          <a:gradFill rotWithShape="0">
            <a:gsLst>
              <a:gs pos="0">
                <a:srgbClr val="ec90df"/>
              </a:gs>
              <a:gs pos="100000">
                <a:srgbClr val="6d436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下一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文本框 22535"/>
          <p:cNvSpPr/>
          <p:nvPr/>
        </p:nvSpPr>
        <p:spPr>
          <a:xfrm>
            <a:off x="2195640" y="189000"/>
            <a:ext cx="554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66ff"/>
                </a:solidFill>
                <a:latin typeface="Arial"/>
              </a:rPr>
              <a:t>读课文，填一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4" name=""/>
          <p:cNvGraphicFramePr/>
          <p:nvPr/>
        </p:nvGraphicFramePr>
        <p:xfrm>
          <a:off x="755640" y="981000"/>
          <a:ext cx="7272360" cy="5543640"/>
        </p:xfrm>
        <a:graphic>
          <a:graphicData uri="http://schemas.openxmlformats.org/drawingml/2006/table">
            <a:tbl>
              <a:tblPr/>
              <a:tblGrid>
                <a:gridCol w="2424240"/>
                <a:gridCol w="2423880"/>
                <a:gridCol w="2424240"/>
              </a:tblGrid>
              <a:tr h="711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800000"/>
                          </a:solidFill>
                          <a:latin typeface="微软雅黑"/>
                          <a:ea typeface="微软雅黑"/>
                        </a:rPr>
                        <a:t>次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800000"/>
                          </a:solidFill>
                          <a:latin typeface="微软雅黑"/>
                          <a:ea typeface="微软雅黑"/>
                        </a:rPr>
                        <a:t>第一次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800000"/>
                          </a:solidFill>
                          <a:latin typeface="微软雅黑"/>
                          <a:ea typeface="微软雅黑"/>
                        </a:rPr>
                        <a:t>第二次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800000"/>
                          </a:solidFill>
                          <a:latin typeface="微软雅黑"/>
                          <a:ea typeface="微软雅黑"/>
                        </a:rPr>
                        <a:t>母亲的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微软雅黑"/>
                          <a:ea typeface="微软雅黑"/>
                        </a:rPr>
                        <a:t>“</a:t>
                      </a:r>
                      <a:r>
                        <a:rPr b="1" lang="zh-CN" sz="2000" spc="-1" strike="noStrike">
                          <a:solidFill>
                            <a:srgbClr val="800000"/>
                          </a:solidFill>
                          <a:latin typeface="微软雅黑"/>
                          <a:ea typeface="微软雅黑"/>
                        </a:rPr>
                        <a:t>听说北海的花儿都开了，我推你去走走。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微软雅黑"/>
                          <a:ea typeface="微软雅黑"/>
                        </a:rPr>
                        <a:t>“</a:t>
                      </a:r>
                      <a:r>
                        <a:rPr b="1" lang="zh-CN" sz="2000" spc="-1" strike="noStrike">
                          <a:solidFill>
                            <a:srgbClr val="800000"/>
                          </a:solidFill>
                          <a:latin typeface="微软雅黑"/>
                          <a:ea typeface="微软雅黑"/>
                        </a:rPr>
                        <a:t>北海的菊花开了，我推你去看看吧。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微软雅黑"/>
                          <a:ea typeface="微软雅黑"/>
                        </a:rPr>
                        <a:t>“</a:t>
                      </a:r>
                      <a:r>
                        <a:rPr b="1" lang="zh-CN" sz="2000" spc="-1" strike="noStrike">
                          <a:solidFill>
                            <a:srgbClr val="800000"/>
                          </a:solidFill>
                          <a:latin typeface="微软雅黑"/>
                          <a:ea typeface="微软雅黑"/>
                        </a:rPr>
                        <a:t>我”的情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800000"/>
                          </a:solidFill>
                          <a:latin typeface="微软雅黑"/>
                          <a:ea typeface="微软雅黑"/>
                        </a:rPr>
                        <a:t>暴怒无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800000"/>
                          </a:solidFill>
                          <a:latin typeface="微软雅黑"/>
                          <a:ea typeface="微软雅黑"/>
                        </a:rPr>
                        <a:t>独自在屋里，看着树叶唰唰的落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800000"/>
                          </a:solidFill>
                          <a:latin typeface="微软雅黑"/>
                          <a:ea typeface="微软雅黑"/>
                        </a:rPr>
                        <a:t>母亲的表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800000"/>
                          </a:solidFill>
                          <a:latin typeface="微软雅黑"/>
                          <a:ea typeface="微软雅黑"/>
                        </a:rPr>
                        <a:t>母亲就悄悄躲出去，偷偷的观察我的动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800000"/>
                          </a:solidFill>
                          <a:latin typeface="微软雅黑"/>
                          <a:ea typeface="微软雅黑"/>
                        </a:rPr>
                        <a:t>母亲进来了，挡在窗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微软雅黑"/>
                          <a:ea typeface="微软雅黑"/>
                        </a:rPr>
                        <a:t>“</a:t>
                      </a:r>
                      <a:r>
                        <a:rPr b="1" lang="zh-CN" sz="2000" spc="-1" strike="noStrike">
                          <a:solidFill>
                            <a:srgbClr val="800000"/>
                          </a:solidFill>
                          <a:latin typeface="微软雅黑"/>
                          <a:ea typeface="微软雅黑"/>
                        </a:rPr>
                        <a:t>我”的表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微软雅黑"/>
                          <a:ea typeface="微软雅黑"/>
                        </a:rPr>
                        <a:t>“</a:t>
                      </a:r>
                      <a:r>
                        <a:rPr b="1" lang="zh-CN" sz="2000" spc="-1" strike="noStrike">
                          <a:solidFill>
                            <a:srgbClr val="800000"/>
                          </a:solidFill>
                          <a:latin typeface="微软雅黑"/>
                          <a:ea typeface="微软雅黑"/>
                        </a:rPr>
                        <a:t>不，我不去。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微软雅黑"/>
                          <a:ea typeface="微软雅黑"/>
                        </a:rPr>
                        <a:t>“</a:t>
                      </a:r>
                      <a:r>
                        <a:rPr b="1" lang="zh-CN" sz="2000" spc="-1" strike="noStrike">
                          <a:solidFill>
                            <a:srgbClr val="800000"/>
                          </a:solidFill>
                          <a:latin typeface="微软雅黑"/>
                          <a:ea typeface="微软雅黑"/>
                        </a:rPr>
                        <a:t>什么时候？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800000"/>
                          </a:solidFill>
                          <a:latin typeface="微软雅黑"/>
                          <a:ea typeface="微软雅黑"/>
                        </a:rPr>
                        <a:t>母亲的表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800000"/>
                          </a:solidFill>
                          <a:latin typeface="微软雅黑"/>
                          <a:ea typeface="微软雅黑"/>
                        </a:rPr>
                        <a:t>母亲扑过来，捉住我的手，“咱娘俩好好活。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800000"/>
                          </a:solidFill>
                          <a:latin typeface="微软雅黑"/>
                          <a:ea typeface="微软雅黑"/>
                        </a:rPr>
                        <a:t>喜出望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 spokes="8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者为什么要反复描写“看花”？</a:t>
            </a:r>
            <a:endParaRPr b="0" lang="en-US" sz="3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457200" y="20412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看花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本文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中心事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看花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母爱的集中体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看花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我新生活的象征，是母亲心愿的达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1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1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"/>
          <p:cNvSpPr txBox="1"/>
          <p:nvPr/>
        </p:nvSpPr>
        <p:spPr>
          <a:xfrm>
            <a:off x="457200" y="56196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文最后一段为什么详写各种颜色的菊花在“秋风中正开得烂漫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“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秋风中正开得烂漫”的菊花，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象征了母亲菊花一样的精神品格，对生命的渴望和眷恋，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也表明“我”和妹妹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实现了母亲生前的遗愿，感受到生活的美好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"/>
          <p:cNvSpPr txBox="1"/>
          <p:nvPr/>
        </p:nvSpPr>
        <p:spPr>
          <a:xfrm>
            <a:off x="457200" y="56196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尾重复母亲“好好儿活”的话，有什么深意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3300"/>
                </a:solidFill>
                <a:latin typeface="宋体"/>
              </a:rPr>
              <a:t>结尾重复母亲“好好儿活”的话，表明成熟的“我们”现在已经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懂得生命的意义和生活的真谛</a:t>
            </a:r>
            <a:r>
              <a:rPr b="1" lang="zh-CN" sz="3600" spc="-1" strike="noStrike">
                <a:solidFill>
                  <a:srgbClr val="003300"/>
                </a:solidFill>
                <a:latin typeface="宋体"/>
              </a:rPr>
              <a:t>，不会再徒叹命运的无情，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会勇敢地面对生活的磨难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1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"/>
          <p:cNvSpPr txBox="1"/>
          <p:nvPr/>
        </p:nvSpPr>
        <p:spPr>
          <a:xfrm>
            <a:off x="270000" y="824040"/>
            <a:ext cx="852624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母亲所说的“好好活儿”和我所理解的“好好活儿”有何区别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母亲：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母子二人都要战胜病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我”：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为了母亲，我和妹妹都要坚强的活下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1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1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1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"/>
          <p:cNvSpPr txBox="1"/>
          <p:nvPr/>
        </p:nvSpPr>
        <p:spPr>
          <a:xfrm>
            <a:off x="250920" y="98100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课文讲述了重病缠身的母亲，体贴入微地照顾双腿瘫痪的儿子，鼓励儿子好好活下去的故事，歌颂了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伟大而无私的母爱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1" name="图片 15363" descr="花"/>
          <p:cNvPicPr/>
          <p:nvPr/>
        </p:nvPicPr>
        <p:blipFill>
          <a:blip r:embed="rId1"/>
          <a:stretch/>
        </p:blipFill>
        <p:spPr>
          <a:xfrm>
            <a:off x="6732720" y="4437000"/>
            <a:ext cx="2365200" cy="2405160"/>
          </a:xfrm>
          <a:prstGeom prst="rect">
            <a:avLst/>
          </a:prstGeom>
          <a:ln w="0">
            <a:noFill/>
          </a:ln>
        </p:spPr>
      </p:pic>
      <p:sp>
        <p:nvSpPr>
          <p:cNvPr id="1142" name="文本框 15364"/>
          <p:cNvSpPr/>
          <p:nvPr/>
        </p:nvSpPr>
        <p:spPr>
          <a:xfrm>
            <a:off x="395280" y="260280"/>
            <a:ext cx="31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Arial"/>
                <a:ea typeface="华文彩云"/>
              </a:rPr>
              <a:t>主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1" dur="2000"/>
                                        <p:tgtEl>
                                          <p:spTgt spid="1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Rectangle 2"/>
          <p:cNvSpPr/>
          <p:nvPr/>
        </p:nvSpPr>
        <p:spPr>
          <a:xfrm>
            <a:off x="0" y="64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为什么是秋天的怀念？秋天有什么值得作者去怀念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Text Box 3"/>
          <p:cNvSpPr/>
          <p:nvPr/>
        </p:nvSpPr>
        <p:spPr>
          <a:xfrm>
            <a:off x="179280" y="2205000"/>
            <a:ext cx="896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Rectangle 4"/>
          <p:cNvSpPr/>
          <p:nvPr/>
        </p:nvSpPr>
        <p:spPr>
          <a:xfrm>
            <a:off x="228600" y="1454040"/>
            <a:ext cx="858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母亲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秋天去世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的，“我”深切怀念母亲对“我”的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Rectangle 5"/>
          <p:cNvSpPr/>
          <p:nvPr/>
        </p:nvSpPr>
        <p:spPr>
          <a:xfrm>
            <a:off x="241200" y="2724120"/>
            <a:ext cx="866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秋天里去看菊花，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母亲对“我”的希望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，“我”用行动向母亲表示，不仅自己好好活，还要带着妹妹好好活，让母亲在九泉之下放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Rectangle 6"/>
          <p:cNvSpPr/>
          <p:nvPr/>
        </p:nvSpPr>
        <p:spPr>
          <a:xfrm>
            <a:off x="395280" y="450864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秋天是菊花盛开的时节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“菊花”是母亲坚韧、乐观精神的象征，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看到菊花绽放得那样鲜艳、灿烂，让“我”明白了要好好儿活，活出精彩，做生活的强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80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1" dur="80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2" dur="80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3" dur="80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8" dur="80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9" dur="80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0" dur="80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3" name="文本占位符 13313" descr="u=188623655,4119333005&amp;fm=3&amp;gp=21"/>
          <p:cNvPicPr/>
          <p:nvPr/>
        </p:nvPicPr>
        <p:blipFill>
          <a:blip r:embed="rId1"/>
          <a:stretch/>
        </p:blipFill>
        <p:spPr>
          <a:xfrm>
            <a:off x="0" y="1844640"/>
            <a:ext cx="5076720" cy="5013360"/>
          </a:xfrm>
          <a:prstGeom prst="rect">
            <a:avLst/>
          </a:prstGeom>
          <a:ln w="0">
            <a:noFill/>
          </a:ln>
        </p:spPr>
      </p:pic>
      <p:sp>
        <p:nvSpPr>
          <p:cNvPr id="1014" name="矩形 13314"/>
          <p:cNvSpPr/>
          <p:nvPr/>
        </p:nvSpPr>
        <p:spPr>
          <a:xfrm>
            <a:off x="3132000" y="260280"/>
            <a:ext cx="6012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史铁生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当代著名作家。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5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生于北京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67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毕业于清华附中。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69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去延安地区插队落户。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7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岁的他因病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双腿瘫痪回到北京，在街道工厂工作，后因病情加重回家疗养。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79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开始发表作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5" name="图片 13315" descr="sts1"/>
          <p:cNvPicPr/>
          <p:nvPr/>
        </p:nvPicPr>
        <p:blipFill>
          <a:blip r:embed="rId2"/>
          <a:stretch/>
        </p:blipFill>
        <p:spPr>
          <a:xfrm>
            <a:off x="5398920" y="4221000"/>
            <a:ext cx="3745080" cy="2448000"/>
          </a:xfrm>
          <a:prstGeom prst="rect">
            <a:avLst/>
          </a:prstGeom>
          <a:ln w="0">
            <a:noFill/>
          </a:ln>
        </p:spPr>
      </p:pic>
      <p:pic>
        <p:nvPicPr>
          <p:cNvPr id="1016" name="图片 13316" descr="2f9cbdcc7e6def3000e92871"/>
          <p:cNvPicPr/>
          <p:nvPr/>
        </p:nvPicPr>
        <p:blipFill>
          <a:blip r:embed="rId3"/>
          <a:stretch/>
        </p:blipFill>
        <p:spPr>
          <a:xfrm>
            <a:off x="539640" y="260280"/>
            <a:ext cx="2509920" cy="3276720"/>
          </a:xfrm>
          <a:prstGeom prst="rect">
            <a:avLst/>
          </a:prstGeom>
          <a:ln w="0">
            <a:noFill/>
          </a:ln>
        </p:spPr>
      </p:pic>
      <p:sp>
        <p:nvSpPr>
          <p:cNvPr id="1017" name="文本框 13317"/>
          <p:cNvSpPr/>
          <p:nvPr/>
        </p:nvSpPr>
        <p:spPr>
          <a:xfrm>
            <a:off x="324000" y="3932280"/>
            <a:ext cx="4752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代表小说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命若琴弦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务虚笔记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的遥远的清平湾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散文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与地坛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欢树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《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隙碎笔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500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500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500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8" name="图片 43009" descr="u=2929456457,1397123954&amp;gp=-6"/>
          <p:cNvPicPr/>
          <p:nvPr/>
        </p:nvPicPr>
        <p:blipFill>
          <a:blip r:embed="rId1"/>
          <a:stretch/>
        </p:blipFill>
        <p:spPr>
          <a:xfrm>
            <a:off x="0" y="189000"/>
            <a:ext cx="2144880" cy="2950920"/>
          </a:xfrm>
          <a:prstGeom prst="rect">
            <a:avLst/>
          </a:prstGeom>
          <a:ln w="0">
            <a:noFill/>
          </a:ln>
        </p:spPr>
      </p:pic>
      <p:sp>
        <p:nvSpPr>
          <p:cNvPr id="1019" name="文本框 43010"/>
          <p:cNvSpPr/>
          <p:nvPr/>
        </p:nvSpPr>
        <p:spPr>
          <a:xfrm>
            <a:off x="610200" y="32464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汉仪大隶书简"/>
              </a:rPr>
              <a:t>史铁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文本框 43011"/>
          <p:cNvSpPr/>
          <p:nvPr/>
        </p:nvSpPr>
        <p:spPr>
          <a:xfrm>
            <a:off x="2411280" y="333360"/>
            <a:ext cx="67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95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生于北京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97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年，</a:t>
            </a:r>
            <a:r>
              <a:rPr b="1" lang="en-US" sz="3600" spc="-1" strike="noStrike">
                <a:solidFill>
                  <a:srgbClr val="e40000"/>
                </a:solidFill>
                <a:latin typeface="宋体"/>
              </a:rPr>
              <a:t>21</a:t>
            </a:r>
            <a:r>
              <a:rPr b="1" lang="zh-CN" sz="3600" spc="-1" strike="noStrike">
                <a:solidFill>
                  <a:srgbClr val="e40000"/>
                </a:solidFill>
                <a:latin typeface="宋体"/>
              </a:rPr>
              <a:t>岁的他因病瘫痪，从此永远坐上了轮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文本框 43012"/>
          <p:cNvSpPr/>
          <p:nvPr/>
        </p:nvSpPr>
        <p:spPr>
          <a:xfrm>
            <a:off x="2556000" y="2205000"/>
            <a:ext cx="65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他写的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我与地坛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被公认为中国近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年最优秀的散文之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文本框 43013"/>
          <p:cNvSpPr/>
          <p:nvPr/>
        </p:nvSpPr>
        <p:spPr>
          <a:xfrm>
            <a:off x="250920" y="458136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00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年，他获得华语文学传媒大奖年度杰出成就奖，是现在</a:t>
            </a:r>
            <a:r>
              <a:rPr b="1" lang="zh-CN" sz="3600" spc="-1" strike="noStrike">
                <a:solidFill>
                  <a:srgbClr val="e40000"/>
                </a:solidFill>
                <a:latin typeface="宋体"/>
              </a:rPr>
              <a:t>中国最令人敬佩的作家之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3" name="图片 43014" descr="无标题"/>
          <p:cNvPicPr/>
          <p:nvPr/>
        </p:nvPicPr>
        <p:blipFill>
          <a:blip r:embed="rId2"/>
          <a:stretch/>
        </p:blipFill>
        <p:spPr>
          <a:xfrm>
            <a:off x="7812000" y="4770360"/>
            <a:ext cx="1332000" cy="2087640"/>
          </a:xfrm>
          <a:prstGeom prst="rect">
            <a:avLst/>
          </a:prstGeom>
          <a:ln w="0">
            <a:noFill/>
          </a:ln>
        </p:spPr>
      </p:pic>
      <p:pic>
        <p:nvPicPr>
          <p:cNvPr id="1024" name="图片 43015" descr="u=2911092291,4242805574&amp;gp=-2"/>
          <p:cNvPicPr/>
          <p:nvPr/>
        </p:nvPicPr>
        <p:blipFill>
          <a:blip r:embed="rId3"/>
          <a:stretch/>
        </p:blipFill>
        <p:spPr>
          <a:xfrm>
            <a:off x="7093080" y="4005360"/>
            <a:ext cx="1439640" cy="21733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文本框 45057"/>
          <p:cNvSpPr/>
          <p:nvPr/>
        </p:nvSpPr>
        <p:spPr>
          <a:xfrm>
            <a:off x="468360" y="692280"/>
            <a:ext cx="412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活到最狂妄的年龄上忽的残废了双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6" name="图片 45058" descr="sts1"/>
          <p:cNvPicPr/>
          <p:nvPr/>
        </p:nvPicPr>
        <p:blipFill>
          <a:blip r:embed="rId1"/>
          <a:stretch/>
        </p:blipFill>
        <p:spPr>
          <a:xfrm>
            <a:off x="5508720" y="0"/>
            <a:ext cx="3635280" cy="3284640"/>
          </a:xfrm>
          <a:prstGeom prst="rect">
            <a:avLst/>
          </a:prstGeom>
          <a:ln w="0">
            <a:noFill/>
          </a:ln>
        </p:spPr>
      </p:pic>
      <p:pic>
        <p:nvPicPr>
          <p:cNvPr id="1027" name="图片 45059" descr="xin_470702040947265218126"/>
          <p:cNvPicPr/>
          <p:nvPr/>
        </p:nvPicPr>
        <p:blipFill>
          <a:blip r:embed="rId2"/>
          <a:stretch/>
        </p:blipFill>
        <p:spPr>
          <a:xfrm>
            <a:off x="0" y="2997360"/>
            <a:ext cx="2706840" cy="3860640"/>
          </a:xfrm>
          <a:prstGeom prst="rect">
            <a:avLst/>
          </a:prstGeom>
          <a:ln w="0">
            <a:noFill/>
          </a:ln>
        </p:spPr>
      </p:pic>
      <p:sp>
        <p:nvSpPr>
          <p:cNvPr id="1028" name="文本框 45060"/>
          <p:cNvSpPr/>
          <p:nvPr/>
        </p:nvSpPr>
        <p:spPr>
          <a:xfrm>
            <a:off x="3348000" y="371628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两条腿瘫痪后的最初几年，我找不到工作，找不到出路，突然似乎什么都找不到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图片 5123" descr="花"/>
          <p:cNvPicPr/>
          <p:nvPr/>
        </p:nvPicPr>
        <p:blipFill>
          <a:blip r:embed="rId1"/>
          <a:stretch/>
        </p:blipFill>
        <p:spPr>
          <a:xfrm>
            <a:off x="6732720" y="4437000"/>
            <a:ext cx="2365200" cy="2405160"/>
          </a:xfrm>
          <a:prstGeom prst="rect">
            <a:avLst/>
          </a:prstGeom>
          <a:ln w="0">
            <a:noFill/>
          </a:ln>
        </p:spPr>
      </p:pic>
      <p:sp>
        <p:nvSpPr>
          <p:cNvPr id="1030" name="文本框 5124"/>
          <p:cNvSpPr/>
          <p:nvPr/>
        </p:nvSpPr>
        <p:spPr>
          <a:xfrm>
            <a:off x="1187280" y="620640"/>
            <a:ext cx="64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文本框 5125"/>
          <p:cNvSpPr/>
          <p:nvPr/>
        </p:nvSpPr>
        <p:spPr>
          <a:xfrm>
            <a:off x="0" y="350028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、文中的“我”，性格脾气是什么样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文本框 5127"/>
          <p:cNvSpPr/>
          <p:nvPr/>
        </p:nvSpPr>
        <p:spPr>
          <a:xfrm>
            <a:off x="0" y="1530360"/>
            <a:ext cx="914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、读准“瘫痪、侍弄 、整宿 、 憔悴 、仿膳 、豌豆、诀别 、烂漫、翻来覆去  、絮絮叨叨”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5130"/>
          <p:cNvSpPr txBox="1"/>
          <p:nvPr/>
        </p:nvSpPr>
        <p:spPr>
          <a:xfrm>
            <a:off x="0" y="260280"/>
            <a:ext cx="6095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带着问题读课文</a:t>
            </a:r>
            <a:endParaRPr b="0" lang="en-US" sz="60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034" name="11013秋天的怀念配乐(1).mp3" descr=""/>
          <p:cNvPicPr/>
          <p:nvPr/>
        </p:nvPicPr>
        <p:blipFill>
          <a:blip r:embed="rId2"/>
          <a:stretch/>
        </p:blipFill>
        <p:spPr>
          <a:xfrm>
            <a:off x="831708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46" dur="indefinite" restart="never" nodeType="tmRoot">
          <p:childTnLst>
            <p:seq>
              <p:cTn id="47" restart="whenNotActive" nodeType="interactiveSeq" fill="hold">
                <p:stCondLst>
                  <p:cond evt="onClick">
                    <p:tgtEl>
                      <p:spTgt spid="1034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1034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215369" fill="hold"/>
                                        <p:tgtEl>
                                          <p:spTgt spid="10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文本框 46083"/>
          <p:cNvSpPr/>
          <p:nvPr/>
        </p:nvSpPr>
        <p:spPr>
          <a:xfrm>
            <a:off x="395280" y="1844640"/>
            <a:ext cx="813600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瘫痪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侍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弄       整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宿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憔悴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仿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膳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豌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豆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诀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别       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翻来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覆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去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絮絮叨叨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矩形 46085"/>
          <p:cNvSpPr txBox="1"/>
          <p:nvPr/>
        </p:nvSpPr>
        <p:spPr>
          <a:xfrm>
            <a:off x="324000" y="189000"/>
            <a:ext cx="2286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0">
                  <a:noFill/>
                </a:ln>
                <a:solidFill>
                  <a:srgbClr val="ff3300"/>
                </a:solidFill>
                <a:latin typeface="宋体"/>
              </a:rPr>
              <a:t>读一读</a:t>
            </a:r>
            <a:endParaRPr b="0" lang="en-US" sz="6000" spc="-1" strike="noStrike">
              <a:ln w="0">
                <a:noFill/>
              </a:ln>
              <a:solidFill>
                <a:srgbClr val="ff3300"/>
              </a:solidFill>
              <a:latin typeface="宋体"/>
              <a:ea typeface="宋体"/>
            </a:endParaRPr>
          </a:p>
        </p:txBody>
      </p:sp>
      <p:sp>
        <p:nvSpPr>
          <p:cNvPr id="1037" name="文本框 46086"/>
          <p:cNvSpPr/>
          <p:nvPr/>
        </p:nvSpPr>
        <p:spPr>
          <a:xfrm>
            <a:off x="0" y="119700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e40000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e40000"/>
                </a:solidFill>
                <a:latin typeface="Arial"/>
              </a:rPr>
              <a:t>ā</a:t>
            </a:r>
            <a:r>
              <a:rPr b="0" lang="en-US" sz="2800" spc="-1" strike="noStrike">
                <a:solidFill>
                  <a:srgbClr val="e40000"/>
                </a:solidFill>
                <a:latin typeface="Arial"/>
              </a:rPr>
              <a:t>n hu</a:t>
            </a:r>
            <a:r>
              <a:rPr b="1" lang="en-US" sz="2800" spc="-1" strike="noStrike">
                <a:solidFill>
                  <a:srgbClr val="e40000"/>
                </a:solidFill>
                <a:latin typeface="Arial"/>
              </a:rPr>
              <a:t>à</a:t>
            </a:r>
            <a:r>
              <a:rPr b="0" lang="en-US" sz="2800" spc="-1" strike="noStrike">
                <a:solidFill>
                  <a:srgbClr val="e40000"/>
                </a:solidFill>
                <a:latin typeface="Arial"/>
              </a:rPr>
              <a:t>n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40000"/>
                </a:solidFill>
                <a:latin typeface="Arial"/>
              </a:rPr>
              <a:t>sh</a:t>
            </a:r>
            <a:r>
              <a:rPr b="1" lang="en-US" sz="2800" spc="-1" strike="noStrike">
                <a:solidFill>
                  <a:srgbClr val="e40000"/>
                </a:solidFill>
                <a:latin typeface="Arial"/>
              </a:rPr>
              <a:t>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800" spc="-1" strike="noStrike">
                <a:solidFill>
                  <a:srgbClr val="e40000"/>
                </a:solidFill>
                <a:latin typeface="Arial"/>
              </a:rPr>
              <a:t>xi</a:t>
            </a:r>
            <a:r>
              <a:rPr b="1" lang="en-US" sz="2800" spc="-1" strike="noStrike">
                <a:solidFill>
                  <a:srgbClr val="e40000"/>
                </a:solidFill>
                <a:latin typeface="Arial"/>
              </a:rPr>
              <a:t>ǔ</a:t>
            </a:r>
            <a:r>
              <a:rPr b="0" lang="en-US" sz="2800" spc="-1" strike="noStrike">
                <a:solidFill>
                  <a:srgbClr val="e40000"/>
                </a:solidFill>
                <a:latin typeface="Arial"/>
              </a:rPr>
              <a:t>       qi</a:t>
            </a:r>
            <a:r>
              <a:rPr b="1" lang="en-US" sz="2800" spc="-1" strike="noStrike">
                <a:solidFill>
                  <a:srgbClr val="e40000"/>
                </a:solidFill>
                <a:latin typeface="Arial"/>
              </a:rPr>
              <a:t>á</a:t>
            </a:r>
            <a:r>
              <a:rPr b="0" lang="en-US" sz="2800" spc="-1" strike="noStrike">
                <a:solidFill>
                  <a:srgbClr val="e40000"/>
                </a:solidFill>
                <a:latin typeface="Arial"/>
              </a:rPr>
              <a:t>o cu</a:t>
            </a:r>
            <a:r>
              <a:rPr b="1" lang="en-US" sz="2800" spc="-1" strike="noStrike">
                <a:solidFill>
                  <a:srgbClr val="e40000"/>
                </a:solidFill>
                <a:latin typeface="Arial"/>
              </a:rPr>
              <a:t>ì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文本框 46090"/>
          <p:cNvSpPr/>
          <p:nvPr/>
        </p:nvSpPr>
        <p:spPr>
          <a:xfrm>
            <a:off x="826920" y="299736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h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à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w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ā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n            jué                 m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à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文本框 46095"/>
          <p:cNvSpPr/>
          <p:nvPr/>
        </p:nvSpPr>
        <p:spPr>
          <a:xfrm>
            <a:off x="1547640" y="4724280"/>
            <a:ext cx="46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ù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          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xù xù dāo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ā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图片 6147" descr="花"/>
          <p:cNvPicPr/>
          <p:nvPr/>
        </p:nvPicPr>
        <p:blipFill>
          <a:blip r:embed="rId1"/>
          <a:stretch/>
        </p:blipFill>
        <p:spPr>
          <a:xfrm>
            <a:off x="6732720" y="4437000"/>
            <a:ext cx="2365200" cy="2405160"/>
          </a:xfrm>
          <a:prstGeom prst="rect">
            <a:avLst/>
          </a:prstGeom>
          <a:ln w="0">
            <a:noFill/>
          </a:ln>
        </p:spPr>
      </p:pic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8796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99"/>
                </a:solidFill>
                <a:latin typeface="Arial"/>
                <a:ea typeface="华文彩云"/>
              </a:rPr>
              <a:t>初读感知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179280" y="1844640"/>
            <a:ext cx="928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你觉得文中的“我”，性格脾气是什么样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文本框 6150"/>
          <p:cNvSpPr/>
          <p:nvPr/>
        </p:nvSpPr>
        <p:spPr>
          <a:xfrm>
            <a:off x="1343160" y="295596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1187280" y="404280"/>
            <a:ext cx="1058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望着望着天上北归的雁阵，我会</a:t>
            </a:r>
            <a:r>
              <a:rPr b="1" lang="zh-CN" sz="3600" spc="-1" strike="noStrike">
                <a:solidFill>
                  <a:srgbClr val="e40000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45" name=""/>
          <p:cNvSpPr txBox="1"/>
          <p:nvPr/>
        </p:nvSpPr>
        <p:spPr>
          <a:xfrm>
            <a:off x="1186920" y="1268280"/>
            <a:ext cx="64090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突然把面前的玻璃砸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6" name="图片 8195" descr="花"/>
          <p:cNvPicPr/>
          <p:nvPr/>
        </p:nvPicPr>
        <p:blipFill>
          <a:blip r:embed="rId1"/>
          <a:stretch/>
        </p:blipFill>
        <p:spPr>
          <a:xfrm>
            <a:off x="6732720" y="4437000"/>
            <a:ext cx="2365200" cy="2405160"/>
          </a:xfrm>
          <a:prstGeom prst="rect">
            <a:avLst/>
          </a:prstGeom>
          <a:ln w="0">
            <a:noFill/>
          </a:ln>
        </p:spPr>
      </p:pic>
      <p:sp>
        <p:nvSpPr>
          <p:cNvPr id="1047" name="文本框 8196"/>
          <p:cNvSpPr/>
          <p:nvPr/>
        </p:nvSpPr>
        <p:spPr>
          <a:xfrm>
            <a:off x="1042920" y="198900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听着听着李谷一甜美的歌声，我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文本框 8197"/>
          <p:cNvSpPr/>
          <p:nvPr/>
        </p:nvSpPr>
        <p:spPr>
          <a:xfrm>
            <a:off x="971640" y="3284640"/>
            <a:ext cx="657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妈妈让我去看菊花，我会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文本框 8198"/>
          <p:cNvSpPr/>
          <p:nvPr/>
        </p:nvSpPr>
        <p:spPr>
          <a:xfrm>
            <a:off x="1042920" y="256536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猛地把手边的东西摔向四周的墙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文本框 8204"/>
          <p:cNvSpPr/>
          <p:nvPr/>
        </p:nvSpPr>
        <p:spPr>
          <a:xfrm>
            <a:off x="971640" y="393372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不，我不去！我可活什么劲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文本框 8206"/>
          <p:cNvSpPr/>
          <p:nvPr/>
        </p:nvSpPr>
        <p:spPr>
          <a:xfrm>
            <a:off x="900000" y="486900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双腿瘫痪后，我的脾气变的暴怒无常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5" dur="2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2" dur="2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5T08:50:01Z</dcterms:created>
  <dc:creator>微软用户</dc:creator>
  <dc:description/>
  <dc:language>en-US</dc:language>
  <cp:lastModifiedBy>cora</cp:lastModifiedBy>
  <dcterms:modified xsi:type="dcterms:W3CDTF">2017-09-28T03:16:16Z</dcterms:modified>
  <cp:revision>8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50</vt:lpwstr>
  </property>
</Properties>
</file>